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4.jpeg" ContentType="image/jpeg"/>
  <Override PartName="/ppt/media/image22.png" ContentType="image/png"/>
  <Override PartName="/ppt/media/image29.png" ContentType="image/png"/>
  <Override PartName="/ppt/media/image21.jpeg" ContentType="image/jpeg"/>
  <Override PartName="/ppt/media/image23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DA3-9839-412D-AEA4-143246D7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3CB-C97B-4523-9C1D-AA2273E8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1F27-F1E5-4175-8522-3D90CACC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E01-AD93-421E-AB56-4E383C00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5072-1478-48D4-BEBD-C5B3045C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696-6A29-4ADA-A977-BD30CF1C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094C-99FF-4B70-B5A9-5ED8BFD5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5431-8464-4C39-9C11-B67A4455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7A97-5D56-4984-91E4-7BA62D9B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5DFB-801A-452A-80EB-1FB90A12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A3FB-FA73-4EA0-BE62-B613B4ED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1C1-E932-4FF9-A094-FFF9F597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rekker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rekk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rekk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rekk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rekk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rekk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kk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kk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rekke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rekker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rekke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rekker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rekke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0367-DA64-4D6A-8BE0-3FB27E81948A}" type="slidenum">
              <a:rPr b="0" lang="en-US" sz="1400" spc="-1" strike="noStrike">
                <a:solidFill>
                  <a:srgbClr val="eaeaea"/>
                </a:solidFill>
                <a:latin typeface="Trekke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380880"/>
            <a:ext cx="57913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The Origin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of Huma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5502240"/>
            <a:ext cx="6095880" cy="825480"/>
          </a:xfrm>
          <a:prstGeom prst="rect">
            <a:avLst/>
          </a:prstGeom>
          <a:noFill/>
          <a:ln w="19080">
            <a:solidFill>
              <a:srgbClr val="66ffff"/>
            </a:solidFill>
            <a:miter/>
          </a:ln>
          <a:effectLst>
            <a:outerShdw dist="17819" dir="27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lackChancery"/>
              </a:rPr>
              <a:t>Ms. Susan M. Pojer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BlackChancery"/>
              </a:rPr>
              <a:t>Horace Greeley HS      Chappaqua, 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844720" y="3048120"/>
            <a:ext cx="3741840" cy="203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029200" y="3490920"/>
            <a:ext cx="3505320" cy="23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838080" y="2811600"/>
            <a:ext cx="3505320" cy="229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"/>
          <p:cNvSpPr txBox="1"/>
          <p:nvPr/>
        </p:nvSpPr>
        <p:spPr>
          <a:xfrm>
            <a:off x="1066680" y="457200"/>
            <a:ext cx="73152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ffering Human Migration Theories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1905120"/>
            <a:ext cx="7619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Are we all Africans “under the skin”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666880" y="457200"/>
            <a:ext cx="3657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13716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2147760"/>
            <a:ext cx="5562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 Unicode MS"/>
              </a:rPr>
              <a:t>200,000 BCE – 10,000 B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3200400"/>
            <a:ext cx="411480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HOMO SAPIENS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( “Wise Human Being”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09480" y="2908440"/>
            <a:ext cx="1905120" cy="227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4038480" y="4861080"/>
            <a:ext cx="2362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4937040"/>
            <a:ext cx="3429000" cy="70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Neanderthals</a:t>
            </a:r>
            <a:br>
              <a:rPr sz="2400"/>
            </a:br>
            <a:r>
              <a:rPr b="1" lang="en-US" sz="1600" spc="-1" strike="noStrike">
                <a:solidFill>
                  <a:srgbClr val="ffffff"/>
                </a:solidFill>
                <a:latin typeface="Arial Unicode MS"/>
              </a:rPr>
              <a:t>( 200,000 BCE – 30,000 BC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4937040"/>
            <a:ext cx="2895480" cy="70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Cro-Magnons</a:t>
            </a:r>
            <a:br>
              <a:rPr sz="2400"/>
            </a:br>
            <a:r>
              <a:rPr b="1" lang="en-US" sz="1600" spc="-1" strike="noStrike">
                <a:solidFill>
                  <a:srgbClr val="ffffff"/>
                </a:solidFill>
                <a:latin typeface="Arial Unicode MS"/>
              </a:rPr>
              <a:t>( 40,000 BCE – 10,000 BC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571640" y="4175280"/>
            <a:ext cx="1143000" cy="7617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4175280"/>
            <a:ext cx="1295280" cy="7617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971800" y="30492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600200"/>
            <a:ext cx="3657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NEANDERTH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95680" y="2365200"/>
            <a:ext cx="4267440" cy="289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838080" y="2270160"/>
            <a:ext cx="3276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Neander Valley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 Germany (18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3200400"/>
            <a:ext cx="3657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irst humans to bur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  their d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4098960"/>
            <a:ext cx="37339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Made clothes fro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  animal sk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5089680"/>
            <a:ext cx="35053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Lived in caves a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  t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895480" y="380880"/>
            <a:ext cx="3276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1447920"/>
            <a:ext cx="3200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5880" y="2057400"/>
            <a:ext cx="274320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09480" y="2362320"/>
            <a:ext cx="507996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6477120" y="4022640"/>
            <a:ext cx="2057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 Unicode MS"/>
              </a:rPr>
              <a:t>Early Hut/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324480" y="4959360"/>
            <a:ext cx="2362320" cy="121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8120" y="304920"/>
            <a:ext cx="3200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600200"/>
            <a:ext cx="37339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 Unicode MS"/>
              </a:rPr>
              <a:t>CRO-MAGNON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2193840"/>
            <a:ext cx="40384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Homo sapiens sapie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( “Wise, wise human”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5241960"/>
            <a:ext cx="33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By 30,000 BCE they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   replaced Neanderth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5334120"/>
            <a:ext cx="1676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 Unicode MS"/>
              </a:rPr>
              <a:t>WHY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23880" y="3263760"/>
            <a:ext cx="5931000" cy="153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4724280" y="5562720"/>
            <a:ext cx="144792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057400" y="2641680"/>
            <a:ext cx="4889520" cy="292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"/>
          <p:cNvSpPr txBox="1"/>
          <p:nvPr/>
        </p:nvSpPr>
        <p:spPr>
          <a:xfrm>
            <a:off x="1371600" y="685800"/>
            <a:ext cx="6400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mo sapiens sapiens in Europe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600200" y="533520"/>
            <a:ext cx="5791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Last Ice A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270160"/>
            <a:ext cx="6858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Unicode MS"/>
              </a:rPr>
              <a:t>70,000 BCE – 10,000 B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266920" y="3200400"/>
            <a:ext cx="466740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752480" y="762120"/>
            <a:ext cx="5715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Neolithic A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2498760"/>
            <a:ext cx="5715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Neolithic”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 --&gt;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“New Stone”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3260880"/>
            <a:ext cx="5715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10,000 BCE – 4,00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4022640"/>
            <a:ext cx="3353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Gradual shift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4495680"/>
            <a:ext cx="64771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Nomadic lifestyle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--&gt; settled, stationer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                                 lifesty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5470560"/>
            <a:ext cx="64771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Hunting/Gathering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--&gt; agricultural productio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                                   and domestication of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                                  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066680" y="5335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gricultural Revolu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2193840"/>
            <a:ext cx="4952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8,000 BCE – 5,00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2895480"/>
            <a:ext cx="6553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Arial Unicode MS"/>
              </a:rPr>
              <a:t>Agriculture developed independently in</a:t>
            </a:r>
            <a:br>
              <a:rPr sz="2400"/>
            </a:br>
            <a:r>
              <a:rPr b="0" lang="en-US" sz="2400" spc="-1" strike="noStrike">
                <a:solidFill>
                  <a:srgbClr val="00ffff"/>
                </a:solidFill>
                <a:latin typeface="Arial Unicode MS"/>
              </a:rPr>
              <a:t>   different parts of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673440"/>
            <a:ext cx="4496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ffff"/>
              </a:buClr>
              <a:buSzPct val="125000"/>
              <a:buFont typeface="Bridgnor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</a:rPr>
              <a:t>SLASH-AND-BURN Fa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5132520"/>
            <a:ext cx="7848720" cy="12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 Unicode MS"/>
              </a:rPr>
              <a:t>Middle East      India      Central America      China      Southea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 Unicode MS"/>
              </a:rPr>
              <a:t>8,000 BCE     7,000 BCE     6,500 BCE    6,000 BCE        5,000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5665680"/>
            <a:ext cx="5943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5437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5437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5437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5437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0120" y="5437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066680" y="5335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gricultural Revolu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3200400"/>
            <a:ext cx="2438280" cy="1295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3429000"/>
            <a:ext cx="182880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f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438280"/>
            <a:ext cx="1676160" cy="8384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4572000"/>
            <a:ext cx="1676520" cy="838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2362320"/>
            <a:ext cx="1676160" cy="838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4648320"/>
            <a:ext cx="1676520" cy="838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3124080"/>
            <a:ext cx="8380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971800" y="4343400"/>
            <a:ext cx="9144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791320" y="3200400"/>
            <a:ext cx="10666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343400"/>
            <a:ext cx="83844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4800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3181320"/>
            <a:ext cx="5715000" cy="207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Theories on prehistory and early man constantly change as new evidence comes to light.       </a:t>
            </a:r>
            <a:br>
              <a:rPr sz="2600"/>
            </a:b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- Louis Leakey, British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      paleoanthrop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609480"/>
            <a:ext cx="6019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The First Huma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89880" y="2971800"/>
            <a:ext cx="1539720" cy="26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5791320" y="4648320"/>
            <a:ext cx="7617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066680" y="5335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gricultural Revolu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2133720"/>
            <a:ext cx="6705720" cy="31413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Tahoma"/>
              </a:rPr>
              <a:t>Why do you think the development of agriculture occurred around the same time in several different pla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9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066680" y="5335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gricultural Revolu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438280"/>
            <a:ext cx="6705720" cy="27752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Tahoma"/>
              </a:rPr>
              <a:t>Why do some archaeologists believe that women were the first farm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990720" y="53352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rly Settled Communiti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1905120"/>
            <a:ext cx="7848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Growing crops on a regular basis made possible the </a:t>
            </a:r>
            <a:br>
              <a:rPr sz="2400"/>
            </a:b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   support of larger pop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2743200"/>
            <a:ext cx="74674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More permanent, settled communities emer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3352680"/>
            <a:ext cx="7848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9,000 BCE --&gt; Earliest Agricultural Settlement at</a:t>
            </a:r>
            <a:r>
              <a:rPr b="1" lang="en-US" sz="2400" spc="-1" strike="noStrike">
                <a:solidFill>
                  <a:srgbClr val="ccccff"/>
                </a:solidFill>
                <a:latin typeface="Arial Unicode MS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ccccff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 JARMO</a:t>
            </a:r>
            <a:r>
              <a:rPr b="1" lang="en-US" sz="2400" spc="-1" strike="noStrike">
                <a:solidFill>
                  <a:srgbClr val="ffff66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( northern Iraq ) --&gt;</a:t>
            </a:r>
            <a:r>
              <a:rPr b="1" lang="en-US" sz="2400" spc="-1" strike="noStrike">
                <a:solidFill>
                  <a:srgbClr val="ccccff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w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>
            <a:lum contrast="24000"/>
          </a:blip>
          <a:srcRect l="12505" t="8141" r="12505" b="15118"/>
          <a:stretch/>
        </p:blipFill>
        <p:spPr>
          <a:xfrm>
            <a:off x="1676520" y="4495680"/>
            <a:ext cx="243828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3">
            <a:lum contrast="6000"/>
          </a:blip>
          <a:srcRect l="6942" t="2220" r="18058" b="24657"/>
          <a:stretch/>
        </p:blipFill>
        <p:spPr>
          <a:xfrm>
            <a:off x="4952880" y="4495680"/>
            <a:ext cx="274320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66680" y="533520"/>
            <a:ext cx="7010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rly Settled Communiti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057400"/>
            <a:ext cx="8839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8,000 BCE --&gt; Largest Early Settlement at</a:t>
            </a:r>
            <a:r>
              <a:rPr b="1" lang="en-US" sz="2400" spc="-1" strike="noStrike">
                <a:solidFill>
                  <a:srgbClr val="ccccff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Ç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atal H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  <a:ea typeface="Arial"/>
              </a:rPr>
              <a:t>ü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yük</a:t>
            </a:r>
            <a:r>
              <a:rPr b="1" lang="en-US" sz="2400" spc="-1" strike="noStrike">
                <a:solidFill>
                  <a:srgbClr val="ffff66"/>
                </a:solidFill>
                <a:latin typeface="Arial Unicode MS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ccccff"/>
                </a:solidFill>
                <a:latin typeface="Arial Unicode MS"/>
              </a:rPr>
              <a:t> 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( Modern Turkey ) --&gt; 6,000 inhabi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3505320"/>
            <a:ext cx="2971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Division of 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11480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Engaged in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4724280"/>
            <a:ext cx="3733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Organized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5334120"/>
            <a:ext cx="2438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Small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895480"/>
            <a:ext cx="30481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12 cultivated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648320" y="4114800"/>
            <a:ext cx="4064040" cy="74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5029200" y="5029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n obsidian da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90720" y="533520"/>
            <a:ext cx="7010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rly Settled Communiti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3657600" cy="261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105520" y="1828800"/>
            <a:ext cx="3546360" cy="410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1447920" y="5257800"/>
            <a:ext cx="2255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Çatal Hüyü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895480" y="495252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5486400"/>
            <a:ext cx="1371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066680" y="5335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gricultural Revolu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2209680"/>
            <a:ext cx="7848720" cy="34455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Tahoma"/>
              </a:rPr>
              <a:t>What role did the food supply play in shaping the nomadic life of hunter-gatherers and the settled life of the farm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1143000"/>
            <a:ext cx="8153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y is the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Neolithic Revolution"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turning point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human history?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33520" y="1143000"/>
            <a:ext cx="8153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is 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xt step in the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velopment of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uman settlements?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914400" y="3657600"/>
            <a:ext cx="7467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VILIZATIONS !!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438280" y="838080"/>
            <a:ext cx="4724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TIES 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/>
          <p:nvPr/>
        </p:nvSpPr>
        <p:spPr>
          <a:xfrm>
            <a:off x="4648320" y="21337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880" y="990720"/>
            <a:ext cx="81536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are 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aracteristics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f a civilization?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71600" y="1324080"/>
            <a:ext cx="6477120" cy="50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>
            <a:off x="2514600" y="22860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Early Discoveri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160020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95480" y="1676520"/>
            <a:ext cx="3733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VILIZATION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66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350532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eci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4724280"/>
            <a:ext cx="1447920" cy="1295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350532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rd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e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160020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13336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971800" y="28954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2895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943600" y="2819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447920" y="457200"/>
            <a:ext cx="6324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s of Earl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Human Develop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895480"/>
            <a:ext cx="5181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1.  4,000,000 BCE – 1,000,00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505320"/>
            <a:ext cx="5181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2.  1,500,000 BCE -- 250,00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4114800"/>
            <a:ext cx="449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3.  250,000 BCE – 30,00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47242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4.  30,000 BCE -- 10,00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429000"/>
            <a:ext cx="2666880" cy="147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 Unicode MS"/>
              </a:rPr>
              <a:t> </a:t>
            </a:r>
            <a:r>
              <a:rPr b="1" i="1" lang="en-US" sz="2000" spc="-1" strike="noStrike">
                <a:solidFill>
                  <a:srgbClr val="66ffff"/>
                </a:solidFill>
                <a:latin typeface="Arial Unicode MS"/>
              </a:rPr>
              <a:t>Paleolithic Age</a:t>
            </a:r>
            <a:r>
              <a:rPr b="1" lang="en-US" sz="2000" spc="-1" strike="noStrike">
                <a:solidFill>
                  <a:srgbClr val="66ffff"/>
                </a:solidFill>
                <a:latin typeface="Arial Unicode MS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Arial Unicode MS"/>
              </a:rPr>
              <a:t>( Old Stone Ag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 Unicode MS"/>
              </a:rPr>
              <a:t>2,500,000 BCE  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Arial Unicode MS"/>
              </a:rPr>
              <a:t>   to 8,00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81080" y="32763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3276720"/>
            <a:ext cx="12956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495288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5181480"/>
            <a:ext cx="12193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676520" y="457200"/>
            <a:ext cx="5715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Paleolithic A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1828800"/>
            <a:ext cx="5562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Paleolithic”</a:t>
            </a:r>
            <a:r>
              <a:rPr b="1" lang="en-US" sz="2800" spc="-1" strike="noStrike">
                <a:solidFill>
                  <a:srgbClr val="00ffff"/>
                </a:solidFill>
                <a:latin typeface="Arial Unicode MS"/>
              </a:rPr>
              <a:t> --&gt; </a:t>
            </a: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“Old Stone”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2362320"/>
            <a:ext cx="4876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2,500,000 BCE – 10,00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4876920"/>
            <a:ext cx="6095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hunting (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men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) &amp; gathering (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women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         --&gt; small bands of 20-30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5715000"/>
            <a:ext cx="6095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NOMADIC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 (moving from place to 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2895480"/>
            <a:ext cx="1981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Mad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114800" y="3048120"/>
            <a:ext cx="3276720" cy="15285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3124080" y="4800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19520" y="457200"/>
            <a:ext cx="3352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1828800"/>
            <a:ext cx="5715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 Unicode MS"/>
              </a:rPr>
              <a:t>4,000,000 BCE – 1,000,000 B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2803680"/>
            <a:ext cx="403848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</a:rPr>
              <a:t>Hominids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--&gt; any memb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 of the family of two-legg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 primates that includes a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 hum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4784760"/>
            <a:ext cx="2971800" cy="109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Australopithec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946920" y="2932200"/>
            <a:ext cx="1295280" cy="2325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1966680" cy="2557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477120" y="5470560"/>
            <a:ext cx="2666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n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Apposabl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 Thu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819520" y="457200"/>
            <a:ext cx="3276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1676520"/>
            <a:ext cx="350496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HOMO HABILIS</a:t>
            </a:r>
            <a:br>
              <a:rPr sz="2400"/>
            </a:br>
            <a:r>
              <a:rPr b="1" lang="en-US" sz="2400" spc="-1" strike="noStrike">
                <a:solidFill>
                  <a:srgbClr val="ccccff"/>
                </a:solidFill>
                <a:latin typeface="Arial Unicode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( “Man of Skills”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2651040"/>
            <a:ext cx="3200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found in East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81480" y="2666880"/>
            <a:ext cx="2979720" cy="340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705720" y="484200"/>
            <a:ext cx="1828800" cy="172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1447920" y="3260880"/>
            <a:ext cx="3276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created stone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rcRect l="0" t="0" r="0" b="15850"/>
          <a:stretch/>
        </p:blipFill>
        <p:spPr>
          <a:xfrm>
            <a:off x="1143000" y="3962520"/>
            <a:ext cx="302256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828800" y="3808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Paleolithic A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1660680"/>
            <a:ext cx="7315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Humans during this period found shelter in c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62520" y="2743200"/>
            <a:ext cx="2057400" cy="156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048120" y="4749840"/>
            <a:ext cx="5702040" cy="127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143000" y="2193840"/>
            <a:ext cx="4419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Cave paintings left beh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248520" y="3429000"/>
            <a:ext cx="761760" cy="763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22096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86600" y="3276720"/>
            <a:ext cx="182880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 Unicode MS"/>
              </a:rPr>
              <a:t>Purpose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85800" y="3200400"/>
            <a:ext cx="1905120" cy="20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 flipH="1">
            <a:off x="7467120" y="3733920"/>
            <a:ext cx="228600" cy="7617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971800" y="457200"/>
            <a:ext cx="3048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1600200"/>
            <a:ext cx="5334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 Unicode MS"/>
              </a:rPr>
              <a:t>1,6000,000 BCE – 30,000 B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209680"/>
            <a:ext cx="434340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HOMO ERECTUS 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( “Upright Human Being”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257800" y="2743200"/>
            <a:ext cx="3365640" cy="123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762120" y="3794040"/>
            <a:ext cx="4647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Larger and more var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 tools --&gt; primit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784760"/>
            <a:ext cx="449568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irst hominid to migrate a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 leave Africa for Europe a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6095880"/>
            <a:ext cx="4724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irst to use fire ( 500,000 BC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 rot="1364400">
            <a:off x="6019920" y="5486400"/>
            <a:ext cx="97128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76520" y="3184560"/>
            <a:ext cx="2361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BIPED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9T00:43:49Z</dcterms:created>
  <dc:creator>Susan M. Pojer</dc:creator>
  <dc:description/>
  <dc:language>en-US</dc:language>
  <cp:lastModifiedBy>Susan</cp:lastModifiedBy>
  <dcterms:modified xsi:type="dcterms:W3CDTF">2007-07-04T04:11:47Z</dcterms:modified>
  <cp:revision>141</cp:revision>
  <dc:subject/>
  <dc:title>The Origin of Humans</dc:title>
</cp:coreProperties>
</file>